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79000" y="696600"/>
            <a:ext cx="4645080" cy="348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30A73-263F-4318-8430-05E47766C7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22907-E3C8-4427-A7DB-0740CFE272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D6BA9-1794-4696-8B59-30F732D844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170FF-001C-44F6-90D7-0C10C1BE9C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BB7F1-2CBA-404F-8B8C-E91640376B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16401-4198-49F9-BA6B-E3D6CCFD68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7D232-8F46-4929-B023-536B8FBF38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AB4C9-B514-44A9-87D7-8401665281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196E5-6506-47F1-BDCC-B445B7669E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472E4-9917-4F10-83B5-A7F0FDE4FB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37C85-170E-4C67-99CC-102796B5B9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46D7A-D83D-448E-B500-E6755C794B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B5758-FD89-4E58-B12D-2542BAA3D5E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A3FF8-1E93-466B-A17F-04AF08E3581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7720" y="26665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800" spc="-1" strike="noStrike">
                <a:solidFill>
                  <a:srgbClr val="000000"/>
                </a:solidFill>
                <a:latin typeface="Arial"/>
              </a:rPr>
              <a:t>Pursuing Broader Perspec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Algebraic Thin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Breakout #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Where to sit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PM 1D with MFM1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F 3M with MCR 3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BF3C with MFM 2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T4C with MHF4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10E77-0FFB-441A-A4F7-FEF19E0AA9D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80880" y="9140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Learning Go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xplore connections between key components of algebraic thinking and proportional reaso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nd key components of algebraic thinking and proportional reasoning in the curricul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examples of generalization and justification in student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re connections between patterning and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90D30-072A-4BA8-A265-011BE3FF4E5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8889F-6401-45C8-89BD-F64F9C07E49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Minds On ~ 1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sing half of a sheet of chart paper, create a Venn Dia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se the Venn Diagram to illustrate similarities and differences between the key mathematical ideas related to Proportional Reasoning and Algebraic Thinking </a:t>
            </a:r>
            <a:r>
              <a:rPr b="1" i="1" lang="en-CA" sz="2400" spc="-1" strike="noStrike" u="sng">
                <a:solidFill>
                  <a:srgbClr val="000000"/>
                </a:solidFill>
                <a:uFillTx/>
                <a:latin typeface="Arial"/>
              </a:rPr>
              <a:t>in general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(not related to a specific cours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Think about: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information from our plenary sessions and the Big Ideas in the CAMPPP Program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0A56E-5AAB-4911-B47B-EB2869A5560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4125D-0077-4EA2-81D6-BC62F46CBB6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Minds On ~ 1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or a  course you are familiar wit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at are some of the key ideas/topics related to Proportional Reasoning and Algebraic Thinking on your Venn Diagram – look for similarities/differ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ost your Venn Diagram when your group is d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Resources: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Hard copies of curriculum documents are available as well as on-line curricu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084CC-B80C-475E-ADCF-A15C77FDF61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3FF1A-A0D6-44F4-BB44-F28A3DA30FC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799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68160" indent="-628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8160" indent="-628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~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8160" indent="-628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8160" indent="-628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and discuss examples of Algebraic Thinking in student samples from the “Cube Sticker Problem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1304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er to Generalization Strategies and Justification Framework from Ple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13040" indent="-53352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8160" indent="-628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together with another pair.  Share and compare your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EE4C4-73C4-49D4-B6D9-F19D2E6E9AD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95795-BB7A-444F-94D0-9139897B99A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1031"/>
          <p:cNvGrpSpPr/>
          <p:nvPr/>
        </p:nvGrpSpPr>
        <p:grpSpPr>
          <a:xfrm>
            <a:off x="4876560" y="1523880"/>
            <a:ext cx="3505320" cy="1066680"/>
            <a:chOff x="4876560" y="1523880"/>
            <a:chExt cx="3505320" cy="1066680"/>
          </a:xfrm>
        </p:grpSpPr>
        <p:sp>
          <p:nvSpPr>
            <p:cNvPr id="74" name="AutoShape 1032"/>
            <p:cNvSpPr/>
            <p:nvPr/>
          </p:nvSpPr>
          <p:spPr>
            <a:xfrm>
              <a:off x="4952880" y="1523880"/>
              <a:ext cx="3429000" cy="838080"/>
            </a:xfrm>
            <a:prstGeom prst="cloudCallout">
              <a:avLst>
                <a:gd name="adj1" fmla="val -23379"/>
                <a:gd name="adj2" fmla="val 4299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033"/>
            <p:cNvSpPr/>
            <p:nvPr/>
          </p:nvSpPr>
          <p:spPr>
            <a:xfrm flipH="1">
              <a:off x="4876560" y="2286000"/>
              <a:ext cx="6094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1034"/>
            <p:cNvSpPr/>
            <p:nvPr/>
          </p:nvSpPr>
          <p:spPr>
            <a:xfrm>
              <a:off x="5410080" y="1752480"/>
              <a:ext cx="274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99"/>
                  </a:solidFill>
                  <a:latin typeface="Arial"/>
                </a:rPr>
                <a:t>Work with a partn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D5247-FCD6-47F0-8960-40F65CAB1B0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052A0-C38F-4D2A-9BFA-31AD96E9F4C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030"/>
          <p:cNvSpPr/>
          <p:nvPr/>
        </p:nvSpPr>
        <p:spPr>
          <a:xfrm>
            <a:off x="457200" y="1371600"/>
            <a:ext cx="8229600" cy="33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: Modelling Activity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~ 3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dividually, work through the handou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CA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Modeling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 Quadratic </a:t>
            </a:r>
            <a:r>
              <a:rPr b="1" lang="en-CA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Functions with Square Tiles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hare your insights, ideas, and questions with your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Consolidate ~ 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Perspective Passport / Math Map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ndividually reflect on your learning and next ste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cord in your Passport or on your Math M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15945-6035-4E65-BD8C-5C95DFE80A3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A684D-093B-4C28-A15A-257B429CF51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Z:\Clip Art\Travel &amp; Leisure\Vacations (F - Q)\Map.wmf"/>
          <p:cNvPicPr/>
          <p:nvPr/>
        </p:nvPicPr>
        <p:blipFill>
          <a:blip r:embed="rId2"/>
          <a:stretch/>
        </p:blipFill>
        <p:spPr>
          <a:xfrm>
            <a:off x="7086600" y="1752480"/>
            <a:ext cx="1227240" cy="1141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Z:\Clip Art\Travel &amp; Leisure\Vacations (F - Q)\Passport 1.wmf"/>
          <p:cNvPicPr/>
          <p:nvPr/>
        </p:nvPicPr>
        <p:blipFill>
          <a:blip r:embed="rId3"/>
          <a:stretch/>
        </p:blipFill>
        <p:spPr>
          <a:xfrm rot="21444000">
            <a:off x="6095520" y="1218960"/>
            <a:ext cx="838440" cy="109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FC38A-F968-4C59-A4F4-3C2FC5337A3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EBA5C-D988-4EDF-82EA-4C6E425B039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380880" y="685800"/>
            <a:ext cx="82296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2120" tIns="50760" bIns="50760" anchor="t">
            <a:no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nsolidate:  Feedback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~ 5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ink about a question you have from tod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’m wondering about….”</a:t>
            </a:r>
            <a:br>
              <a:rPr sz="2000"/>
            </a:b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”I’m confused about…..”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 would like to learn more about….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cord it on a sticky note, and attach it to your gly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agrafton</cp:lastModifiedBy>
  <dcterms:modified xsi:type="dcterms:W3CDTF">2011-08-18T00:50:57Z</dcterms:modified>
  <cp:revision>26</cp:revision>
  <dc:subject/>
  <dc:title>&lt;Title&gt;</dc:title>
</cp:coreProperties>
</file>